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B14-EE8E-4380-B537-D8FA6106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DC2-B7C6-4D99-83A9-18D6BD8D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B06-9EA8-4774-9324-5A03448E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D36-7F5A-403C-B304-8820D04B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1BB7-5D12-47BD-B362-3E00DAB4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5FDB-0131-48CD-84EA-3184B19C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0D0E-63CA-4768-83A8-3919BD28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AD48-60E9-4C2C-BC72-0AAB9BE4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AFF9-2104-448E-BCA4-3BBF4BC4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35E6-4BD4-407E-A7BD-24B1CB2D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DB51-B7A3-4CBD-8F42-83B89D10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26B-B903-4683-A0DB-CA830C02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53BC-5327-4200-A2BD-384A6B3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43DE-900D-488F-B495-EA08EB7C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27BC-9686-4CBB-9AA6-075BDDD3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5549-532D-4599-8317-8FE7F38C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4421-27FF-49A4-B572-B5B01E01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CF4-20F8-44A6-85F3-B2937F65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037-AEF2-4794-946F-D9DE8ADD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1A7-06B0-4D4C-8EE1-3AE0D68D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5C1-0F66-4B43-B394-B4BDAE8C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5E6-14B1-40A3-B5D7-FE50B647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5E1-49C7-4E99-A077-252B259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E62-B526-43EC-AE38-94D95DE2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F7FD-2337-4BE3-9D07-32F3B43C18F8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ce3d3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dce3d3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dce3d3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dce3d3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dce3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dce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e3d3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1a79b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743B-5A7B-40D1-8AE1-3543191F68AE}" type="slidenum">
              <a:rPr b="0" lang="en-AU" sz="1200" spc="-1" strike="noStrike">
                <a:solidFill>
                  <a:srgbClr val="a1a79b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596960" y="603360"/>
            <a:ext cx="7096320" cy="1841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1160" indent="-39744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ce3d3"/>
                </a:solidFill>
                <a:latin typeface="Book Antiqua"/>
              </a:rPr>
              <a:t>VOCAB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61160" indent="-39744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ce3d3"/>
                </a:solidFill>
                <a:latin typeface="Book Antiqua"/>
              </a:rPr>
              <a:t>HOMEWORK RESPONSE: ORANG-UTANS AND THEIR HABITAT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61160" indent="-39744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ce3d3"/>
                </a:solidFill>
                <a:latin typeface="Book Antiqua"/>
              </a:rPr>
              <a:t>FACTS ABOUT ORANG-UTAN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461160" indent="-39744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ce3d3"/>
                </a:solidFill>
                <a:latin typeface="Book Antiqua"/>
              </a:rPr>
              <a:t>PALM OIL FACTS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70c0"/>
                </a:solidFill>
                <a:latin typeface="Aharoni"/>
                <a:ea typeface="Aharoni"/>
              </a:rPr>
              <a:t>WHY?</a:t>
            </a:r>
            <a:endParaRPr b="0" lang="en-US" sz="96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7030a0"/>
                </a:solidFill>
                <a:latin typeface="Book Antiqua"/>
              </a:rPr>
              <a:t>IN FOOD:</a:t>
            </a:r>
            <a:endParaRPr b="0" lang="en-US" sz="36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Products with the following labels may contain </a:t>
            </a:r>
            <a:r>
              <a:rPr b="1" i="1" lang="en-AU" sz="2800" spc="-1" strike="noStrike">
                <a:solidFill>
                  <a:srgbClr val="0d0d0d"/>
                </a:solidFill>
                <a:latin typeface="Book Antiqua"/>
              </a:rPr>
              <a:t>PALM OIL</a:t>
            </a: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Vegetable oi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Sodium laureth sulfate (can be coconut)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Sodium lauryl sulfate (SLS, can be ricinus)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Sodium dodecyl sulfate (SDS or NaDS)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Palm kernel oi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d0d0d"/>
                </a:solidFill>
                <a:latin typeface="Book Antiqua"/>
              </a:rPr>
              <a:t>Palm fruit oil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0000"/>
                </a:solidFill>
                <a:latin typeface="Book Antiqua"/>
              </a:rPr>
              <a:t>IN COSMETICS (MAKE UP):</a:t>
            </a:r>
            <a:endParaRPr b="0" lang="en-US" sz="36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Products with the following labels may contain </a:t>
            </a:r>
            <a:r>
              <a:rPr b="1" i="1" lang="en-AU" sz="2800" spc="-1" strike="noStrike">
                <a:solidFill>
                  <a:srgbClr val="0d0d0d"/>
                </a:solidFill>
                <a:latin typeface="Book Antiqua"/>
              </a:rPr>
              <a:t>PALM OIL</a:t>
            </a: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Elaeis guineensis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Glyceryl stearate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Stearic acid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6836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c000"/>
                </a:solidFill>
                <a:latin typeface="Book Antiqua"/>
              </a:rPr>
              <a:t>IN CHEMICALS:</a:t>
            </a:r>
            <a:endParaRPr b="0" lang="en-US" sz="36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Products with the following labels may contain </a:t>
            </a:r>
            <a:r>
              <a:rPr b="1" i="1" lang="en-AU" sz="2800" spc="-1" strike="noStrike">
                <a:solidFill>
                  <a:srgbClr val="0d0d0d"/>
                </a:solidFill>
                <a:latin typeface="Book Antiqua"/>
              </a:rPr>
              <a:t>PALM OIL</a:t>
            </a:r>
            <a:r>
              <a:rPr b="1" lang="en-AU" sz="2800" spc="-1" strike="noStrike">
                <a:solidFill>
                  <a:srgbClr val="0d0d0d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Steareth -2, Steareth -20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Sodium lauryl lactylate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Sodium lauryl sulfoacetate (can be coconut)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Hydrated palm glycerides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Sodium isostearoyl lactylaye (from vegetable stearic acid)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Sodium palm kernelte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Cetyle palmitate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Octyle palmitate (anything with palmitate at end)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Book Antiqua"/>
              </a:rPr>
              <a:t>Palmalein, Palm olein</a:t>
            </a: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Book Antiqua"/>
              </a:rPr>
              <a:t>The scientific name of orang-utan is Pongo Pygmaeus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Book Antiqua"/>
              </a:rPr>
              <a:t>In Malay, the name “orang-utan” means </a:t>
            </a:r>
            <a:r>
              <a:rPr b="1" i="1" lang="en-AU" sz="2800" spc="-1" strike="noStrike">
                <a:solidFill>
                  <a:srgbClr val="000000"/>
                </a:solidFill>
                <a:latin typeface="Book Antiqua"/>
              </a:rPr>
              <a:t>“Person of the forest”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d7dece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Orang-utans live only in the wild in Borneo and Northern Sumatra</a:t>
            </a:r>
            <a:endParaRPr b="0" lang="en-US" sz="2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280" y="321300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45720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VOCAB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30280" indent="-457200">
              <a:spcBef>
                <a:spcPts val="499"/>
              </a:spcBef>
              <a:buClr>
                <a:srgbClr val="d7dece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Book Antiqua"/>
              </a:rPr>
              <a:t>RESEARCH: WHAT DO ORANGUTANS EAT?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53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1596960" y="603360"/>
            <a:ext cx="7096320" cy="1987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2508120"/>
            <a:ext cx="82915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Book Antiqua"/>
              </a:rPr>
              <a:t>FACTS ABOUT ORANG-UTANS AND THEIR HABITAT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1596960" y="603360"/>
            <a:ext cx="7096320" cy="1987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325520" indent="-457200">
              <a:spcBef>
                <a:spcPts val="451"/>
              </a:spcBef>
              <a:buClr>
                <a:srgbClr val="dce3d3"/>
              </a:buClr>
              <a:buSzPct val="8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5eadf"/>
                </a:solidFill>
                <a:latin typeface="Book Antiqua"/>
              </a:rPr>
              <a:t>WHAT DID WE DISCUSS LAST WEEK?</a:t>
            </a: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lvl="1" marL="1325520" indent="-457200">
              <a:spcBef>
                <a:spcPts val="451"/>
              </a:spcBef>
              <a:buClr>
                <a:srgbClr val="dce3d3"/>
              </a:buClr>
              <a:buSzPct val="8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5eadf"/>
                </a:solidFill>
                <a:latin typeface="Book Antiqua"/>
              </a:rPr>
              <a:t>WHAT ARE THE THREE STAGES BEFORE ANIMALS BECOME EXTINCT?</a:t>
            </a: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lvl="1" marL="1325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lvl="1" marL="1325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lvl="1" marL="1325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lvl="1" marL="1325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  <a:p>
            <a:pPr marL="7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195640" y="3645000"/>
            <a:ext cx="4824360" cy="107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546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95640" y="4508640"/>
            <a:ext cx="4824360" cy="1081080"/>
          </a:xfrm>
          <a:prstGeom prst="rect">
            <a:avLst/>
          </a:prstGeom>
          <a:solidFill>
            <a:srgbClr val="f05510"/>
          </a:solidFill>
          <a:ln w="25560">
            <a:solidFill>
              <a:srgbClr val="546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268360" y="5445000"/>
            <a:ext cx="4824720" cy="1079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46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916360" y="580536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ce3d3"/>
                </a:solidFill>
                <a:latin typeface="Arial"/>
              </a:rPr>
              <a:t>EXTINCT</a:t>
            </a:r>
            <a:endParaRPr b="0" lang="en-US" sz="44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771640" y="4581360"/>
            <a:ext cx="44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ce3d3"/>
                </a:solidFill>
                <a:latin typeface="Arial"/>
              </a:rPr>
              <a:t>ENDANGERED</a:t>
            </a:r>
            <a:endParaRPr b="0" lang="en-US" sz="44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556000" y="3716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REATENED</a:t>
            </a:r>
            <a:endParaRPr b="0" lang="en-US" sz="44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158760" y="755640"/>
            <a:ext cx="9326520" cy="3236760"/>
          </a:xfrm>
          <a:prstGeom prst="rect">
            <a:avLst/>
          </a:prstGeom>
          <a:ln w="0">
            <a:noFill/>
          </a:ln>
        </p:spPr>
      </p:pic>
      <p:sp>
        <p:nvSpPr>
          <p:cNvPr id="101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-6480" y="16524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755640" y="1484280"/>
            <a:ext cx="78930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e3e9dd"/>
                </a:solidFill>
                <a:latin typeface="Arial"/>
              </a:rPr>
              <a:t>OUTLINE: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aking a closer look at the price of progress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Orang-utan situation: View geographic videos online. 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iscuss and make notes of what country/habitat looks like. Emphasising the need for many trees for the survival of orang-utans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iscuss reason for habitat being cut down (Palm oil)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xplain and show examples of palm oil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and out list of companies and foods that use palm oil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OMEWORK: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GLOSSARY/VOCAB; Research topic: shelter and survival</a:t>
            </a:r>
            <a:endParaRPr b="0" lang="en-US" sz="18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5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-176040"/>
            <a:ext cx="8674200" cy="2736720"/>
          </a:xfrm>
          <a:prstGeom prst="rect">
            <a:avLst/>
          </a:prstGeom>
          <a:ln w="0">
            <a:noFill/>
          </a:ln>
        </p:spPr>
      </p:pic>
      <p:sp>
        <p:nvSpPr>
          <p:cNvPr id="108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10" name="Picture 10" descr="http://www.african-safari-journals.com/image-files/orangutan-pictures.jpg"/>
          <p:cNvPicPr/>
          <p:nvPr/>
        </p:nvPicPr>
        <p:blipFill>
          <a:blip r:embed="rId2"/>
          <a:stretch/>
        </p:blipFill>
        <p:spPr>
          <a:xfrm>
            <a:off x="2340000" y="1125360"/>
            <a:ext cx="4608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358480" cy="1439640"/>
          </a:xfrm>
          <a:prstGeom prst="rect">
            <a:avLst/>
          </a:prstGeom>
          <a:ln w="0">
            <a:noFill/>
          </a:ln>
        </p:spPr>
      </p:pic>
      <p:sp>
        <p:nvSpPr>
          <p:cNvPr id="112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14" name="Picture 2" descr="http://www.tropical-rainforest-animals.com/image-files/orangutan2.jpg"/>
          <p:cNvPicPr/>
          <p:nvPr/>
        </p:nvPicPr>
        <p:blipFill>
          <a:blip r:embed="rId2"/>
          <a:stretch/>
        </p:blipFill>
        <p:spPr>
          <a:xfrm>
            <a:off x="1476360" y="1557360"/>
            <a:ext cx="597528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4884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pic>
        <p:nvPicPr>
          <p:cNvPr id="118" name="Picture 2" descr="http://www.greenprophet.com/wp-content/uploads/2010/04/indonesia-rainforest-nestle-orangutan.jpg"/>
          <p:cNvPicPr/>
          <p:nvPr/>
        </p:nvPicPr>
        <p:blipFill>
          <a:blip r:embed="rId2"/>
          <a:stretch/>
        </p:blipFill>
        <p:spPr>
          <a:xfrm>
            <a:off x="684360" y="1341360"/>
            <a:ext cx="7468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560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8360" y="1557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dce3d3"/>
              </a:solidFill>
              <a:latin typeface="Book Antiqua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a79b"/>
                </a:solidFill>
                <a:latin typeface="Book Antiqua"/>
              </a:rPr>
              <a:t>07/2010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a1a79b"/>
                </a:solidFill>
                <a:latin typeface="Book Antiqua"/>
              </a:rPr>
              <a:t>Yrs8, 9, 9/10 Geography: J.Stott, J.Tilley &amp; K.Miller</a:t>
            </a:r>
            <a:endParaRPr b="0" lang="en-US" sz="1200" spc="-1" strike="noStrike">
              <a:solidFill>
                <a:srgbClr val="dce3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0:01:51Z</dcterms:created>
  <dc:creator>Taylor</dc:creator>
  <dc:description/>
  <dc:language>en-US</dc:language>
  <cp:lastModifiedBy>Education</cp:lastModifiedBy>
  <dcterms:modified xsi:type="dcterms:W3CDTF">2010-08-03T02:51:20Z</dcterms:modified>
  <cp:revision>54</cp:revision>
  <dc:subject/>
  <dc:title>DEFORESTATION</dc:title>
</cp:coreProperties>
</file>